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FC5-50EC-4795-9813-D332C4B7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6BD-5B32-4BCA-8135-500F1C2B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22B-6D75-47F6-A6BC-464151FF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789-1E36-4767-8BE0-79BF27B6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6B0-0CCA-45E0-BA50-936E95A2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8F8-E37F-49DD-A8A5-CE6EB139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D6D-F214-48DA-8DE8-24FCEE20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439-BDC4-4B9F-8D2C-61C25C24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EC1-E100-4D4A-B7F9-193E9694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17A-7703-4001-A5EA-41540A3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8F6-79B2-49C7-AF50-B24192D8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DD9-C8C4-4400-BE92-88AC0C9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4F26-B939-43F0-9232-4EC12FBAD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8120" y="1828800"/>
            <a:ext cx="2752560" cy="36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-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5a3</cp:lastModifiedBy>
  <dcterms:modified xsi:type="dcterms:W3CDTF">2012-06-12T14:10:07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